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7AC3-05ED-4506-8E7C-1F6C7CE9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D28-F4CC-4328-A5B4-CAA27FDDE1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00A-C97A-459E-8B49-2A49684602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407-1CB4-4F9B-BCFF-663D0777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4B0-A826-4987-B1DB-42152C8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4975F-06B6-4222-9767-945E0AC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F4B7C-C21B-4992-97C5-E5493686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5704-888E-4780-8CBD-C58EA0F8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DA123-3911-4E27-9023-8DDA075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DE7A0-80EA-451D-8C92-C2F4C2D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BFF05-24EE-412A-89E3-A09856D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5DFD4-2EFE-4A5E-9D15-5926FD55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6E310-1107-4F49-A42E-887E75AF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BA9EA-08BE-4C61-AB68-E0B3A328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1EC15-23C4-4311-B3E8-6524DDB5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B59-4D87-4278-9E15-D8ECB581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CC8D5-BD06-41C5-A7F7-0B84B5A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C0EC9-DC71-43F5-9A35-654EDD83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EAD22-618E-4D53-AF51-F2E1BE4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978D3-1100-403E-91D7-F1956037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82303-ECA0-4FE7-A88F-0D29E41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DEEE9-FB1B-4678-9D0A-3C47881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1F127-6529-4743-8FA8-FFB77C9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776AC-9DB8-4B46-9EA7-070E56C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C64C1-09DE-4323-928C-81DFC30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680EF-3EFC-44A4-9A38-56D7F084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A18-F26B-4AB1-939B-E40C19A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64387-85EC-4FAF-A94E-498DDA49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B75B-F90A-4C9A-856A-087109DC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8AD07-A3EC-4F69-B960-7D0ACB22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FD76C-30F3-4E76-8EDF-1E3932B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B582B-F158-41B1-97C1-0EBE508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18B05-FE06-417C-9DF9-34532AB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A962-1ACF-4D57-8A7F-AAFF81D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18976-0B40-4061-8C77-7F067BF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6B904-778B-4AE2-AE6F-D99C56A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84DA-E597-4466-B128-A8361838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B68-F0F2-454F-BBFF-9EDD54A2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3779-6380-4009-9918-86028E0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C72C-FF8B-4688-B5F3-36E19195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681D-FCC1-4EEF-975D-3981DA22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53430-20D9-4DBF-B894-8684C5FF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39508-77C0-46ED-98D6-1ADAF0B8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06475-FF7E-4970-8EF6-1D32078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A56CE-D212-42D7-A21B-F907FBE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A58C0-002A-4908-9D73-0F3DB7A0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E54C9-A2D7-47D2-9C36-13D5B3B5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96BD0-5799-489D-9461-63BCB3F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B98-0DF8-46EE-8783-1F9DDA5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660A8-C309-41CA-8544-06B62AD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E405C-2F12-425B-8F14-4086F04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A7D75-0355-4EE7-92C3-7A6997DB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07438-5569-4519-904E-C53C5B44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E0F20-A68A-496F-876D-45C26AF9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22BE-AA04-4B88-8252-AA44738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921-8CFE-4ECF-8118-C402704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139-06C9-4567-8BFF-106D296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6AF-F060-4402-B176-D593B0E2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773-A02B-4BC2-9195-C502BCC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C16-B85A-48F7-9247-9A899B7C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398-D5BC-4BD8-A3EE-C7BF4DE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DADB-F1FA-4458-8F69-642175C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97E3-1445-4A7E-AB30-24C004C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0B6-1413-4A8B-8FB9-DB38F876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274B-1105-4C9E-A881-1BF1076F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1515-D09A-4E01-B0F4-F47E9309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355E-85C5-4DE4-8312-B5574BE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B752-33CF-402A-BF7F-16D52D6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16A3-886C-4580-9333-151F0DF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3A9B-AB5C-4D53-932F-BD7AE329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365-213B-4926-8C41-4243BD0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1EB1-0987-4808-ADA3-C920C80B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6090-E847-45F0-92F6-EABEBFF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3DBA-1400-48FC-AB81-28BD37B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D4C2-D1CF-4E60-9520-2BEDBA6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8884-56F9-4496-9B7B-837D90F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63EB-15C7-4FCB-813F-C26B80DD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8406-610F-428B-B05B-4B19905E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DA6E-D68F-4F3F-A620-436C53B4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2195-FB6B-4B11-B690-11E5896D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00FF-8FD9-439A-A73F-EB80315A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B6E-4908-4062-B478-E9F377A8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69A0-35F5-4036-989E-94F410EA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8409-FCFC-4C48-A18E-9F09BCD5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2E0F-F672-48FF-BE1F-37002A07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050E-BDB8-4826-8854-4A21E86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B121-E10A-4F0A-88CC-CB410ABC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FD8C-DDBA-44B6-9376-609C8EC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35D0-2172-4CB2-BA41-C489D86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CC94-D277-4067-944C-2A7CD43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1022-C361-45EB-B468-4EC6ABEC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2B12-5F34-416C-9C38-8E0EDDDF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B8E-5EBC-4BF1-8686-3C964A27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74E5-2025-4AEB-AE89-8B96514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F7425-138A-4777-961D-DA372094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5D84-9274-43FD-883C-FEFEC09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9160D-A6D1-4B45-B7A3-507CC526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333F-0330-4946-A5B9-373CD08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95E0-C7DD-4359-8FDE-D53E2C3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519F-7328-400A-AD97-881954F4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90BA-4525-414D-8D83-CB87F4A3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CAD9-D190-4D76-824D-F36FBF1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9739-AF78-4A42-96BA-49B5A68E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D76-028C-41B3-BCA1-1CE8B1E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58EB-5991-4F8F-8B77-36E7A0F7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20EEB-F069-4C94-A92B-52B45BE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3DBA7-8A78-491E-8325-FDAFA2FE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1561-9157-46DE-BCCA-6F704F0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032A-907C-49E1-ACAB-86179CE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2436-A8BD-43B3-AA24-1B68504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075C-96EB-4899-96C2-2C99357F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2678-7161-415B-957B-6682266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BC34-02F2-43E5-BF13-2F6EEA9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7577-EA54-4596-9447-00D15AC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935-6C2B-4A6D-9573-834A7D3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11A96-E0C0-4B42-915B-9CE7753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A3081-51FC-4399-8AFE-5E8EE0CF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7313-F2D4-4A24-923E-DE9A6735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AB01-F766-4B39-90FA-EE555A12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3DA1-7207-4244-BA38-B037AC1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BFC5-17CA-4F69-828D-66162455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85BC-6B82-44C0-8F9D-07A485F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E233-F5F1-41AB-96D5-F6F04B3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A45B0-FBD1-4505-9321-90E6E9C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D8A7-B485-4442-A675-9DE4594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86D-A720-4A4F-826A-CCB5BBD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84B5-9D6F-4195-A40E-4D2BA1C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2CAC-A079-4659-BDF8-266C150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94A3-A9EF-4EE4-8862-2CF92F6E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7009B-236E-4395-9224-F4C2E8C3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D64AB-1C55-48E7-877F-32F230CD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11784-732D-4E7B-AFB8-2244DBE2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2C02-CE94-463D-B3D7-C7B88E9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2E4F-D5B7-4570-9B0F-2EEE773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4859-7F51-4E30-A61C-D5D0EC3C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CEF5-8E99-4C0B-A392-62F3C58B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97B-BB79-4EA0-968E-1715B77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AEE71-6754-4A4B-B2A5-ABF052B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28A2-C316-4DF8-A69E-094E27D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2873C-BD5F-4546-8BB3-475ECB7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1344-8C67-405C-83C5-4B21709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8BE3-130C-4A44-B65C-478B063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D9A8-53A2-4C90-A296-E535E6CD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73FCF-1D0B-40B5-BCFB-DD027A66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0CA7-59F2-4A6C-87B9-EC938209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D1A4D-4A17-4AE5-8B9C-EE3B89A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6A126-652A-4FBD-B135-D005D59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313A-7117-4D75-BA29-4CE77D01E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EBF-0A4E-4FFB-981F-FCA93B962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81AA-842D-4599-8DC6-2ECA3BE0C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F40-59E0-4B75-AA89-F459482CE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8231-4F83-44D7-9298-3C47EA84A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2C9-EFDD-4A94-A45D-D07A0A48D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82B-9073-48A8-9805-6BE4B5D79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006-6D9B-47AA-8BEB-8A99A6DB1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66F7-1252-4F6A-B546-98E3697D8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6302-FF0B-4DBB-A410-03B8E9A7C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06A0-CDD6-4527-9F75-DE2FA8F853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B360-2D50-47DF-BA6B-5630832CF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FOU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LEGAL ADVOC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7b70"/>
                </a:solidFill>
                <a:latin typeface="Georgia"/>
              </a:rPr>
              <a:t>CRIME VICTIM RIGH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LEGAL REMED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7b70"/>
                </a:solidFill>
                <a:latin typeface="Georgia"/>
              </a:rPr>
              <a:t>TECHNOLOGY SAFE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SELF-CA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ormed Cons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order to get a release, you must have informed consent from the survivor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ormed consent mean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urvivor understands potential risk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urvivor understands that it is volunt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urvivor understands where the information will go, to whom, and how it might be us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Ex.  If the survivor releases confidential information to the prosecution it is “discoverable” to the defense and subsequently the offender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ders of Prot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4560" y="1523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are six types of protection orders relevant to survivors of sexual assaul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xual Assault Protection Order (SAPO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mestic Violence Protection Order (DVPO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-Harassment Ord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ulnerable Adult Protection Ord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iminal No-Contact Ord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lking Protection Ord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xual Assault Protection Order (SAPO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civil or criminal order issued by the court on behalf of a sexual assault victi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Civil = victim petitions civil court for the ord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Criminal = judge issues the order as part of a criminal prosecu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hibits contact with the victim, and can also force offender to stay away from their work, school, et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titioner must prove with a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preponderance of evidenc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hat they were a victim of nonconsensual sexual conduct or nonconsensual sexual penetration </a:t>
            </a:r>
            <a:r>
              <a:rPr b="1" lang="en-US" sz="2400" spc="-1" strike="noStrike">
                <a:solidFill>
                  <a:srgbClr val="d16349"/>
                </a:solidFill>
                <a:latin typeface="Georgi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hey are afraid of the perpetrator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not be ordered if the survivor qualifies for a DVP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APO Application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Rounded Rectangle 3"/>
          <p:cNvSpPr/>
          <p:nvPr/>
        </p:nvSpPr>
        <p:spPr>
          <a:xfrm>
            <a:off x="609480" y="2286000"/>
            <a:ext cx="2133720" cy="9144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tition the cou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Rounded Rectangle 4"/>
          <p:cNvSpPr/>
          <p:nvPr/>
        </p:nvSpPr>
        <p:spPr>
          <a:xfrm>
            <a:off x="3657600" y="1828800"/>
            <a:ext cx="2590920" cy="11430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ppear for a temporary hearing – possible temporary order issu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Rounded Rectangle 6"/>
          <p:cNvSpPr/>
          <p:nvPr/>
        </p:nvSpPr>
        <p:spPr>
          <a:xfrm>
            <a:off x="6248520" y="320040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ervice on respon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Rounded Rectangle 7"/>
          <p:cNvSpPr/>
          <p:nvPr/>
        </p:nvSpPr>
        <p:spPr>
          <a:xfrm>
            <a:off x="4114800" y="4572000"/>
            <a:ext cx="2895480" cy="13716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ppear for hearing for permanent protection order (14 days la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5-Point Star 8"/>
          <p:cNvSpPr/>
          <p:nvPr/>
        </p:nvSpPr>
        <p:spPr>
          <a:xfrm rot="20720400">
            <a:off x="248760" y="3548160"/>
            <a:ext cx="3657600" cy="24382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manent order issue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45" name="Straight Arrow Connector 16"/>
          <p:cNvCxnSpPr>
            <a:stCxn id="640" idx="3"/>
            <a:endCxn id="641" idx="1"/>
          </p:cNvCxnSpPr>
          <p:nvPr/>
        </p:nvCxnSpPr>
        <p:spPr>
          <a:xfrm flipV="1">
            <a:off x="2743200" y="2400120"/>
            <a:ext cx="915120" cy="34344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6" name="Straight Arrow Connector 20"/>
          <p:cNvCxnSpPr>
            <a:stCxn id="641" idx="3"/>
            <a:endCxn id="642" idx="0"/>
          </p:cNvCxnSpPr>
          <p:nvPr/>
        </p:nvCxnSpPr>
        <p:spPr>
          <a:xfrm>
            <a:off x="6248160" y="2400480"/>
            <a:ext cx="1181880" cy="80064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7" name="Straight Arrow Connector 23"/>
          <p:cNvCxnSpPr>
            <a:stCxn id="642" idx="2"/>
            <a:endCxn id="643" idx="3"/>
          </p:cNvCxnSpPr>
          <p:nvPr/>
        </p:nvCxnSpPr>
        <p:spPr>
          <a:xfrm flipH="1">
            <a:off x="7009560" y="4267080"/>
            <a:ext cx="420120" cy="99144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8" name="Straight Arrow Connector 26"/>
          <p:cNvCxnSpPr>
            <a:stCxn id="643" idx="1"/>
            <a:endCxn id="644" idx="11"/>
          </p:cNvCxnSpPr>
          <p:nvPr/>
        </p:nvCxnSpPr>
        <p:spPr>
          <a:xfrm flipH="1" flipV="1">
            <a:off x="1769760" y="3587040"/>
            <a:ext cx="2345040" cy="167076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ocacy Ti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p to ensure forms are carefully filled o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ment of Petition” needs to include description of sexual conduct or penetration that was not consensu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rite down any of offenders statements that caused fea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more specific details, such as quotes and specifics of what happened, the more helpful it is to the judg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p to collect evidence to help prove the c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nly do this if it is appropriate and what the survivor wants. You are an advocate, not an investigator.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s could include medical reports, police reports, weapons used, etc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n if there isn’t evidence, the judge will still listen and make a determin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mestic Violence Protection Order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ivil order issued on behalf of a domestic violence victi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is a similar process as the SAP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the survivor was sexually assaulted by a “family or household member” or someone they are in a “dating relationship” with they need to apply for a DV protection or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RCW 7.90.030, RCW 26.50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ti-Harassment Order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civil order issued by the court on behalf of a harassment victi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milar process for obtaining the ord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re is a filing fee, but it may be waived if the petitioner is low-incom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enerally used for parties that are not married, have not lived together, and do not have children in comm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minal No Contact Ord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riminal order issued on behalf of a domestic violence or sexual assault victi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is issued in the context of a pending criminal 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expires when the criminal case is resolve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ulnerable Adult Protective Ord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ivil order issued by the court on behalf of a vulnerable adult who is a victim of abandonment, abuse, financial exploitation, or negl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It is very similar to a DVPO, however, it only applies to vulnerable adul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vulnerable adult i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omeone over the age of 60 who has the functional, mental, or physical inability to care for themselves; 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omeone who is incapacitated; 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omeone who has a developmental disability and is admitted to a facility or is receiving in-home care servic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lking Protection Ord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ivil order issued by the court on behalf of a victim of stalking, similar to a SAPO or DVP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ctim petitions for the order in civil cou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lies to people who do not qualify for a DVPO and are a victim of any stalking conduct, including cyberstal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Role of the Legal Advoca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e as a liaison between the survivor and legal system – both criminal and civ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Help to facilitate the survivor’s decision ma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orm the survivor of their righ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Help prepare for the legal system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company the survivor as they move through the criminal and civil proceed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Inform of other services avail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mploy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 you think a survivor’s employment might be affected by sexual assaul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rvivors have a right to employment lea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mployment leave can often assist survivors with acute medical or short-term legal nee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du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out of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10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tudents (male and female) are affected by sexual violence at some time in their school car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Title IX states that schools that receive federal $$ are required to prevent and appropriately respond to incidents of sexual viol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ocates should be familiar with local school’s policies regarding sexual harassment, bullying, and viol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u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ctims of sexual assault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and their household member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y end a lease if they meet the following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condition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The survivor must have a valid protection order, anti-harassment order, or no contact order </a:t>
            </a:r>
            <a:r>
              <a:rPr b="1" lang="en-US" sz="2000" spc="-1" strike="noStrike">
                <a:solidFill>
                  <a:srgbClr val="665a00"/>
                </a:solidFill>
                <a:latin typeface="Georgia"/>
              </a:rPr>
              <a:t>OR</a:t>
            </a: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 a record of reporting to a qualified third par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The landlord must be notified in writing that the survivor is a victim of sexual assault and receive a copy of the order or statement from qualified third par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The survivor must inform the landlord that they will be moving within 90 days of the assaul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ivil Sui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ivil lawsuits are an additional way survivors can take the journey toward heal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survivor may want to discuss with an attorney the following factors that will influence a decision to file a lawsuit ar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Personal priva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Financial cos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Availability of damag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Availability of a civil claim for the wrong done to the surviv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Whom to sue and for what har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When and where to su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gal Advocacy with Children / Adolesc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often more systems involved in cases of sexual assault against a min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Advocates must be clear who their client is and protect their confidentiality and privacy – just because they are a minor doesn’t mean the child has no privacy righ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ember, the child’s interests may or may not be the same as those of the nonoffending caregi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ell Phones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fety risks associated with cell phon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Auto answer and silent mod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Data collection about the target (who they are talking to, where they are, etc.) via spywar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If the perpetrator is the bill payer, they are able to access all of your informatio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ocial location apps may be used to monitor the survivor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550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tion Trac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isks associated with location tracking include the ability to track an enabled dev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GPS units can be purchas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There are also cell phone apps that track locatio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Many cell phones have GPS in order for wireless E911 to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rvivors should still be prepared to give 911 their loc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cation tracking is often targeted towards parents that want to keep track of their kids – but it is often a tool used by stalkers and perpetrators of intimate partner viole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ages, Consent, &amp; Abu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enge porn” is images of people, taken with or without consent and often sexually explicit, are being used to abuse and hara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times these images will be shared with identifying information. Sometimes the images may even be sent directly to employ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rvivors ca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cument the URL and take screenshots of the sites where the images are posted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eate more content online to bury the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move content if it violates a site’s terms of servic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x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xting is particularly popular with teens and young adul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ws have not yet caught up with the technolog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xting safety tip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Encourage survivors to think carefully about what they share about themselves.  Once something is sent they lose control of i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alk about healthy, safe ways to “flirt” via tex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If the behavior constitutes harassment, the victim may be able to apply for an anti-harassment ord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If something has been sent someone regrets, they can ask the person to immediately delete i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echnology &amp; Sexual Viol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 people use technology as a tool of sexual violenc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es rape culture feed into technology related sexual assaul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gal 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riminal Legal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Objective is punitive; to punish the wrong-do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Legal action is initiated by the stat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tandard of proof is “beyond a reasonable doubt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ivil Legal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Objective is to make an injured party whol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Legal action initiated by the victi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tandard of proof is “preponderance of evidence” = more likely than no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icarious Traum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ocates experience vicarious trauma as a result of the work they 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of the signs of vicarious trauma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tigu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oor sleep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eadach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nxiet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rritabilit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Depress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opelessnes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ynicis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ubstance us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3000" indent="-219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lf-C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ember to set limits!  You don’t have to do it 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5a00"/>
                </a:solidFill>
                <a:latin typeface="Georgia"/>
              </a:rPr>
              <a:t>Understand that secondary trauma does exi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gnize the signs and symptoms in ourselves and our co-workers – hold each other account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5a00"/>
                </a:solidFill>
                <a:latin typeface="Georgia"/>
              </a:rPr>
              <a:t>Vacati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y stressors in your own lif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5a00"/>
                </a:solidFill>
                <a:latin typeface="Georgia"/>
              </a:rPr>
              <a:t>Understand your own vulner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cept your rea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5a00"/>
                </a:solidFill>
                <a:latin typeface="Georgia"/>
              </a:rPr>
              <a:t>Live, love, laug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ing Chan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ways to improve our work environments and change organizational cult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Provide quality supervision that recognizes vicarious trauma and supports self-care nee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Limit client caseloa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Mandate vaca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Debrief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Celebrate succ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we work for change in our community and our organizations, remember why we are doing what we are do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FOU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THE VERY EN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CONGRATULATIONS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minal Justic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304920" y="1600200"/>
          <a:ext cx="8504280" cy="484020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7680"/>
                <a:gridCol w="1416240"/>
                <a:gridCol w="1417680"/>
                <a:gridCol w="1417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 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9 - 12 mont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 – 15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8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044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iew w/ Victim and Police /Prosec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8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rest of su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8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rges filed /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7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ra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fense Inter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se setting Hearing / Omn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………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.Trial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te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ictims’ Righ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6760"/>
            <a:ext cx="85042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 victim can make a report to law enforcement at any time, regardless of how much time has passe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5a00"/>
                </a:solidFill>
                <a:latin typeface="Georgia"/>
              </a:rPr>
              <a:t>Statute of limitations—timeframe that crime can be prosecuted/civil case  can be filed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5a00"/>
                </a:solidFill>
                <a:latin typeface="Georgia"/>
              </a:rPr>
              <a:t>Survivors should consult with an attorney to see if the statute of limitations on their claims is up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survivor has the right to a support per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CVC program may provide financial assistan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ictims have a right to an interpret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s a crime victim, immigration status is not legally releva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eople with disabilities are entitled to reasonable accommod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identi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fidentiality is fundamental to SA serv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ltimately, it is the advocate’s responsibility to protect the information a survivor chooses to sh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son’s right to confidentiality is based on an expectation of privacy –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14</a:t>
            </a:r>
            <a:r>
              <a:rPr b="1" lang="en-US" sz="2700" spc="-1" strike="noStrike" baseline="30000">
                <a:solidFill>
                  <a:srgbClr val="d16349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mend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his right recognizes that the social utility in protecting confidential communications is essential to certain relationshi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Examples of these relationship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19880" indent="-2124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attorney / cli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19880" indent="-2124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doctor / pati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19880" indent="-2124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priest / penit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gram Reco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rds kept by providers of sexual assault advocacy services are confidenti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ever, there is a process through which a defense attorney can request them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rst, the court will decide if the records are releva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xt, if the court believes they are relevant, they will review them in camera (in private) and decide whether their importance to the defendant outweighs the victim’s right to privacy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vileged Commun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ion between a sexual assault advocate and a victim is considered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privileged communication –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CW 5.60.060(7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5a00"/>
                </a:solidFill>
                <a:latin typeface="Georgia"/>
              </a:rPr>
              <a:t>This is intended to protect the survivor’s privacy interest and right to confidential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ce of a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arty waives privile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lease of Inform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4560" y="1447920"/>
            <a:ext cx="850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urvivor can waive their right to confidentia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It is their choice whether to disclose information, how to disclose it, to whom, for what purpose, and for how lo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waiver is a written authorization &amp; consent to release certain information (i.e. “Release of Information” or ROI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Releases should be very specific – no blanket waivers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Have a specific time limitation (recommended 15-30 days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9:16:24Z</dcterms:created>
  <dc:creator>Janet</dc:creator>
  <dc:description/>
  <dc:language>en-US</dc:language>
  <cp:lastModifiedBy>Kelley Richarson</cp:lastModifiedBy>
  <dcterms:modified xsi:type="dcterms:W3CDTF">2014-06-24T22:40:28Z</dcterms:modified>
  <cp:revision>198</cp:revision>
  <dc:subject/>
  <dc:title>Sexual Assault</dc:title>
</cp:coreProperties>
</file>