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EBCF-61D2-4766-BE47-ACA4BE3C6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1F19-E962-4ACB-8082-C39CC72B0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46E5-C17A-480E-8ACD-0B460CD83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E7CA-971C-4B9F-B985-C69660189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99AE-DC34-41E6-9BC5-1450C7261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5559-A89A-4533-B390-FF4F1FE3A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F0E7-E3FB-4627-829B-E1E6FDE71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223-DF94-43E6-9027-A381AE9F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A3A-FBF0-431A-8609-A5720609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A4363-81FC-49A3-961A-CAA07B1B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7E53C-7162-41FC-A207-522AFB45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81FC3-C4D8-4F18-89DA-8E0E6065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C56F7-04DB-4B02-BB4E-367DA46B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BEA25-4003-40DA-A3BA-39AF3ED5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7BFE7-69A5-407B-B862-1756D1E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423F6-6C09-44BE-B298-4EC84E66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CA0E1-DCB4-446A-804C-509264B0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75599-7A2A-410A-90BC-B16263DD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A243C-B3DE-4EBC-9531-B9CC9B49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85C-C5DA-4FF4-872B-5F09E60E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1FD3F-4077-4410-8E15-B5D629E8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F3104-95ED-49EB-A571-3B201AD5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DCA7C-0449-4B66-8B06-AE98C375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91D08-BF15-4305-887A-5DD890F1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1E2ED-AAB5-49A1-86A5-7722C8E0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84DD4-AF6C-400C-A614-B4A875A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0262B-2E0C-4ACC-9D75-3ED026C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1F35C-536E-4C31-B2A6-FE28CFB6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2BA37-4966-43C3-8C06-4128D2C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1EF40-7C5E-490D-8E54-67788B88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5B1-7054-46A8-A0AF-30E6116B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A919A-F536-4500-8411-E75C4203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76242-EAB7-4549-AE56-62A1E840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0704B-E8F2-46B8-8FA5-C2097FB6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B59EC-9182-49F6-A9BF-9F1AB8B5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0F51C-E3AF-4FA6-929D-AF8A3419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E644-B5FB-495C-8C86-9187462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B378A-5FA0-4340-B694-578801E0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E353A-D961-4F40-A7F2-14ACA300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7931-821E-4A51-89AB-B1347DF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70919-E1C6-4260-ABC2-CCEA5253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A721-5CBC-4CBF-84A4-49195140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758C3-B3D7-4717-8915-B415DB00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346C4-D76F-4EA1-90C2-567BE6DD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BCFB3-1078-4707-AD41-1ECF4731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7A946-1550-4170-B153-85F1F641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09B34-E7AD-4E83-948D-84D1466C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8871E-1EFF-4DEC-BD95-25AE1692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B4449-8EE5-49C4-8967-7C87B37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79C6E-0834-4B7B-AC86-725B5DC0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5736B-8834-4C7A-BCFE-62109E0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E98DE-80C9-4E8A-8A4B-1359DF1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34AF-D613-4B5D-8178-02D6BB62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94BE8-BB97-4709-B121-3FEB964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C25D9-243F-4BD2-A75C-BC8F2426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B0268-D762-47CB-AE53-049ED739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DDCCC-A562-4EC8-B9CB-9B5189CC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0B4B8-583B-4762-B40A-D1400EEC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D7C0-9199-41B1-9060-701E2D62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13D5-1668-4315-A4C2-6200C6A9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5214-B40C-4DC2-8692-EF123FFC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68F9-22E6-482C-90F4-8430C541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1E7E-6EB5-4479-B92B-BB87E53F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10F-4F55-40B7-BD9A-633E0A91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CAB0-CF64-4607-9AF3-2D5BE299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7CFF-0377-4ED1-997C-3A5A6D5E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308B-A086-4FD5-A37D-FF1B8634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C4AF-9E32-4411-8F34-F6A612B9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7AAB-E362-477A-B4F0-C80D434E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4883-7E72-47C6-9589-14CCEEA4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36E7-133B-4F47-8D1F-39A96026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7F7C-8CC9-44F2-A02A-D20D902A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F047-7060-4382-9B0E-4B08BEEC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0A45-9B45-412C-8212-F58C15A8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98A-F7B6-4884-A9FA-580CA8B2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436D-F679-4534-8625-F5442509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FB50E-8EBE-4047-A2D3-475D9B3A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6661-64C6-43C8-A822-95E458C7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2D92-C745-4445-B44F-982346E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3015-4D10-48CB-86ED-569BAE96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8C29-4A53-4432-BF69-345E64E9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644B-82F0-4921-9DD0-1A12E331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4B3A-C6EF-4CE7-90EC-CC2AB2A6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4C40-447F-4B95-AF39-5FB82D3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9979E-0A3C-458D-9794-4144426F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809-E39B-4DDB-994B-E4191B50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98DE7-B080-4B09-B74A-976D2AF5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9272-E16D-4800-8520-1330DF48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E1E8-5E68-41A0-BA21-B69997D9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31F3E-B1CF-4CE7-8FFF-03959961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1393-D185-4B95-B1DF-9F055A9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EBD7-E86C-446A-98F9-3117E46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A1D21-23D9-42AD-8D42-6A9742C2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C72BB-D4D6-4398-A0A5-F7B4A1F7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D1EFE-0FEA-4463-B240-8A936E0A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4B041-CADF-4C8D-B5BF-31AEAC0F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7E6-CCC6-4A3E-880A-D429DC86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447C9-9285-406E-8192-2CDE244B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A36A-9559-4EFC-AE41-F139261C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61AE9-3D5A-4946-A778-D75E0068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23D5-27C5-4EA6-BD3C-6C1005D0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FC522-930A-45AB-BABF-077E1C36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A4BC4-EB1D-4FC6-9CAD-456034C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AA1AA-0C91-4806-BB77-AD1DD56C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6A826-0435-45E9-94F5-4A4FC172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80B6B-8F0D-442D-9134-8C2C2968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8DD1-0C86-4D75-A838-3F3F387D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17E-BB53-4E6E-AA8D-4FFA7719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5C2CB-436E-481B-AEB7-C9EB192E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E91E-A88A-4AA5-A2ED-580F43E6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23A3C-140C-4669-BFDB-7D1FFA54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7033A-A3A6-489C-AAAA-CC70CF20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41BD-99E2-4CC3-A16A-9D89A347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73F3-C70A-47AA-9E64-0622FBD1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F1316-9D5D-40B4-B619-70FEC14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B21A1-D29D-4916-9E03-C21D6BC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9195A-75FB-44AE-8B25-45669C4C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70E73-0EB4-4E65-821C-1C574A7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B9C-45E0-458A-A424-D7C96515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0166-2285-409F-A7DE-2514F6D9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20B2B-4D23-4839-8668-3E844A3E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C821-2725-4676-9F68-B9DB6689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AD2C1-2E7B-4A8D-A473-A11291F6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6E708-27A6-44BF-A4CF-C60BB808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FD845-F0DA-44D1-B2E8-D9C4CA0A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A6911-6B5B-499D-8494-D890985A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26A8A-958B-49F1-B890-9CCAD745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38AFC-DD4D-4D4E-9D6F-7478BA99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37716-021E-401E-B6E1-E33DFE2F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A3A-B8BC-43AF-BAA6-09A29933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5F845-6A9F-4C80-B422-2AB355C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2EFCB-208F-49F2-B824-A3C90EA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5B84D-B528-477E-AA3C-4E67CB03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148D5-3596-4D06-BE2D-DE3CCB0C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03CAC-EB57-4D66-9574-5B8883A9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FEA02-F72D-4860-B8B5-0B2171C0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0FC17-5C2D-4CA3-B8F4-6D3DF5B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B714D-9925-48A6-9364-386047D6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78B55-8410-428A-AB31-DC65784C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CFB79-4D0C-4867-8794-708D6080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4D3-4588-4AEF-B77A-A95F57B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1EE78-B4FE-4792-8272-2F9B0D11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58E68-7093-43BD-A24C-F3A9EDC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47968-2911-4129-A554-DFA6D794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879C5-2025-4606-9203-36559D97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B554D-8F92-4673-BB02-E7A65E7F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8BD86-AA53-4C37-810D-5242FE2F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D191-6CF3-49DA-89E9-41AB0A7B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AA84E-C91A-4582-BD22-6E9E5B66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6C301-82B9-4C33-8E0E-37767065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76311-A2EC-4427-929D-30E4A8A0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51A8-5F4F-4DFF-BFD3-65BE50D021D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BF8D-13A1-477B-9328-769E040C9C0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55F0-A946-46E9-85C6-2D174B6A04B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227A-B497-4344-B027-4CF9958A86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1F55-168D-4691-80B6-5745D85568F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AB9C-83FE-4250-96FA-C5F9F4722D7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D64D-FEFF-4522-B3FC-2C8DA01AB23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712-6C13-464F-B859-725B5925C3B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0C19-2358-4827-B061-4608B6EE971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3B8D-B9D1-404C-9E87-36B770A0449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965A-249E-47AE-83A9-C667BBEEE74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9AE7-06CB-4CFA-829E-0A29915883E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52280" y="2819520"/>
            <a:ext cx="88394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VOCATE CORE TRAINING ~ DAY THRE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CRISIS INTERVEN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7b70"/>
                </a:solidFill>
                <a:latin typeface="Georgia"/>
              </a:rPr>
              <a:t>MEDICAL ADVOCAC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ashington Coalition of Sexual Assault Program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uicide Assess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4560" y="16002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isto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14440" indent="-25632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ny previous attempts? If so, how many and how recent? How lethal was the method(s) chosen? How did others respond?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14440" indent="-25632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Lethality increases with number and severity of previous attempt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56320" indent="-2563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la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14440" indent="-25632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Does the survivor have a plan? How specific is it? How lethal? Are the means accessible?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56320" indent="-2563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Resourc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14440" indent="-25632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ernal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14440" indent="-25632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External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t the Hospital…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dical advocacy can b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pporting a survivor through a forensic exa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ccompanying them to terminate a pregnanc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elping ensure follow-up car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 the hospital, the advocate is a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formation resour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 active listen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resource identifi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reality tes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representative of the rape crisis cen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ps of the Tra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your organization’s protoco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 time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lain your ro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vocate for an interpreter, if nee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lain what to expe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now that the victim has a right to have a support person present during the exam (the victim also has the choice to not have you ther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to do if you are asked to stay in the room for the exa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ensic Exam for Adul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rvie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09080" indent="-210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This is to get both medical history and gather assault details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ysic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09080" indent="-210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This will be based on the assault details that the survivor shares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ther tes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09080" indent="-210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To collect blood sample, photograph injuries, bite marks, etc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ug-facilitated Rap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09080" indent="-210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Drugs often leave the system fast, so it is important to get a urine sample within 12-15 hours.  It is important for the survivor to know that any drugs or alcohol in their system will show up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09080" indent="-210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09080" indent="-210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09080" indent="-210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09080" indent="-210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09080" indent="-21024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dical Concerns ~ Pregnan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isk of pregnancy after an assault will depend on the nature of the assaul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mergency contraception, or “Plan B”, should be available as part of a forensic exam and is a covered expen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Hospitals are required by law to dispense EC to victims of sexual assa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C is also legally available without a prescription, should the survivor wish to obtain it from another location or at a later d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b9899"/>
                </a:solidFill>
                <a:latin typeface="Georgia"/>
              </a:rPr>
              <a:t>Medical Concerns – </a:t>
            </a:r>
            <a:br>
              <a:rPr sz="2900"/>
            </a:br>
            <a:r>
              <a:rPr b="0" lang="en-US" sz="2900" spc="-1" strike="noStrike">
                <a:solidFill>
                  <a:srgbClr val="7b9899"/>
                </a:solidFill>
                <a:latin typeface="Georgia"/>
              </a:rPr>
              <a:t>Sexually Transmitted Infections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t is important to bring up so exposure and secondary prevention can be addresse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STIs are a sensitive topic and something the survivor might not have a lot of information 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examiner may prescribe STI prophylaxis as part of the exa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survivor should also discuss HIV testing with the examin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Testing at time of exam will not show any exposure, only if survivor already had HIV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HIV prophylactics are available, but are highly toxic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me Victim’s Compens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survivor is not required to report the incident to law enforcement in order to seek a forensic exa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survivor (or their insurance) should never be billed for a forensic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shington’s Crime Victim’s Compensation Act will cover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09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ensic exa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03640" indent="-2509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dication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03640" indent="-2509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p to full 28 days of HIV prophylax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V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spitals should have a system in place to bill CVC direct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survivor must file a CVC claim to have other care cover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 example, if the survivor has a broken arm, needs surgery, etc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is can be done at a later tim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fter the Ex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680" y="1527120"/>
            <a:ext cx="388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survivors may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hange cloth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ceive instructions (make sure they are in writing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et prescription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5038560" y="1490760"/>
            <a:ext cx="365760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advocate may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elp sort through fears about lea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heck in about sup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vide referr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ive CVC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t up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ake sure STI/EC info was pro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304920" y="5257800"/>
            <a:ext cx="8534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is the survivor getting home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they have a safe place to g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Medical Advocacy ~ Children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dynamics of working with a child can be very different from working with an adul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Similar to child’s regular medical exa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norma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o be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norma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 This doesn’t mean that sexual assault / abuse did not happe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is best practice to have an advocate for the child, and a separate one for the par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a00"/>
                </a:solidFill>
                <a:latin typeface="Georgia"/>
              </a:rPr>
              <a:t>Parents often also need reassurance, guidance and warnings not to magnify the situatio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mportance of Liste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day we are going to talk about how empowerment translates into a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your intervention as an advocate can be an empowering experience with surviv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begin with the concept of active listening and continue with crisis interven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ortance of Listening Activ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Medical Advocacy ~ Teens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s for adolescents are very similar to adult exams, and the advocate’s role is the sa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s for adolescents should not be done w/out their consent unless it’s a life-threatening emergen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Providing Health Care to Minors Under Washington Law handou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Mandatory reporting requirements are still in effec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Know the practices of your local hospita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gnificant Others – </a:t>
            </a:r>
            <a:r>
              <a:rPr b="0" i="1" lang="en-US" sz="3300" spc="-1" strike="noStrike">
                <a:solidFill>
                  <a:srgbClr val="7b9899"/>
                </a:solidFill>
                <a:latin typeface="Georgia"/>
              </a:rPr>
              <a:t>in the Medical s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the survivor has other people with them at the hospital, the advocate should (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privately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 check in with the survivor and verify who they want present during the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lping to keep the significant others calm can also be a big support to the surviv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member, confidentiality is still key! Know who your client i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52280" y="2819520"/>
            <a:ext cx="88394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VOCATE CORE TRAINING ~ DAY THRE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THE END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ashington Coalition of Sexual Assault Program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rriers to Liste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sonal proble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milar experience to the surviv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ereotyp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nned respon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gative views of the surviv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do we address these barrier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tive Listening Skil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eflec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peat / reflect what they are telling you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larific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pen-ended questions are helpfu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araphras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member we are paraphrasing their world and not ours!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efram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lace the information the survivor offers in a new contex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sitive Suppor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 genuin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Focus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specially important when working with people in cris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sis Interven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Rounded Rectangle 5"/>
          <p:cNvSpPr/>
          <p:nvPr/>
        </p:nvSpPr>
        <p:spPr>
          <a:xfrm>
            <a:off x="3124080" y="1676520"/>
            <a:ext cx="2895840" cy="160020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Crisis Intervention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7"/>
          <p:cNvSpPr/>
          <p:nvPr/>
        </p:nvSpPr>
        <p:spPr>
          <a:xfrm>
            <a:off x="685800" y="3809880"/>
            <a:ext cx="3352680" cy="16765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Re-Em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tabi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Vali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le 8"/>
          <p:cNvSpPr/>
          <p:nvPr/>
        </p:nvSpPr>
        <p:spPr>
          <a:xfrm>
            <a:off x="5334120" y="3809880"/>
            <a:ext cx="3352680" cy="16765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Re-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Establish relationships to lessen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Genuineness and 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13"/>
          <p:cNvSpPr/>
          <p:nvPr/>
        </p:nvSpPr>
        <p:spPr>
          <a:xfrm flipH="1">
            <a:off x="2362320" y="3276720"/>
            <a:ext cx="2209680" cy="533160"/>
          </a:xfrm>
          <a:prstGeom prst="line">
            <a:avLst/>
          </a:prstGeom>
          <a:ln w="63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16"/>
          <p:cNvSpPr/>
          <p:nvPr/>
        </p:nvSpPr>
        <p:spPr>
          <a:xfrm>
            <a:off x="4571280" y="3276720"/>
            <a:ext cx="2438280" cy="533160"/>
          </a:xfrm>
          <a:prstGeom prst="line">
            <a:avLst/>
          </a:prstGeom>
          <a:ln w="63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biliz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two ways to help stabilize someon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31880" indent="-457200">
              <a:spcBef>
                <a:spcPts val="550"/>
              </a:spcBef>
              <a:buClr>
                <a:srgbClr val="d1634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Establish safe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731880" indent="-457200">
              <a:spcBef>
                <a:spcPts val="550"/>
              </a:spcBef>
              <a:buClr>
                <a:srgbClr val="d1634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Help them manage overwhelming emotion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is typically more active and dire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bilization establishes concrete action steps for the survivor, which is a collaborative effort between the survivor and advoc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Validation Nation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lidation occurs when the advocat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mmunicates empath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ffers meaningful suppor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vides helpful inform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hows concern for their well-be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can validat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eir value and rights as a pers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eelings about the sexual assa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rength and courag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bility to recov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se of power and self-worth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Reconnection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e seek to establish a relationship that can lessen a survivor’s feelings of alienation and isol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A trusting connection built on rapport is importa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survivor is likely to experience strong emotions addressing their experiences – this may translate in to not keeping appointments, or being late.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Do not take this personal… talking to an advocate can be both helpful and unpleasa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econnection is also about survivors establishing connections with other people in their liv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uicidal Call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sess lethality – this will determine how you proceed with the c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8700"/>
                </a:solidFill>
                <a:latin typeface="Georgia"/>
              </a:rPr>
              <a:t>History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8700"/>
                </a:solidFill>
                <a:latin typeface="Georgia"/>
              </a:rPr>
              <a:t>Plan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8700"/>
                </a:solidFill>
                <a:latin typeface="Georgia"/>
              </a:rPr>
              <a:t>Resources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ke referr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et short-term agreement or contr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8700"/>
                </a:solidFill>
                <a:latin typeface="Georgia"/>
              </a:rPr>
              <a:t>Time of contract should be no longer than 24 hou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n a follow-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2:13:07Z</dcterms:created>
  <dc:creator>Trisha Smith</dc:creator>
  <dc:description/>
  <dc:language>en-US</dc:language>
  <cp:lastModifiedBy>Kelley Richarson</cp:lastModifiedBy>
  <dcterms:modified xsi:type="dcterms:W3CDTF">2014-10-10T17:15:35Z</dcterms:modified>
  <cp:revision>23</cp:revision>
  <dc:subject/>
  <dc:title>Washington Coalition of Sexual Assault Programs</dc:title>
</cp:coreProperties>
</file>