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D73-1DF8-4875-9658-AF03BEF1F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22C3-673E-4E71-A1BB-3388CF5C7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41C-0A62-46E8-A06C-9E4D06123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C05-DBD7-4168-B5B8-9985C518F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C6D-024F-4080-B17B-3092FB1CF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887F-B06C-4D69-9301-310DAF2F8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8762-E58F-43A4-BB18-F413E7105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747-A9C2-4C09-92B7-4E4E199E3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719-01BA-4EE5-913E-F4541694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DF4-0413-4281-BF3C-1950E3CF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9E8F0-26FD-4988-AC96-8537091F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DD01E-2DBC-4EFA-970B-D3FAF11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32B2C-3CCD-4AD5-BE10-2F555F47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EB8B2-F8ED-4E39-B3E3-8F15AE8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52012-2C0A-41AB-992F-350CA9E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85FAE-FE0C-434D-91A1-E0E9651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DA53B-CDCB-49FF-B30C-EC16BE4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3CF8A-A09A-4EBC-8D1C-D5F4512F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C0F7C-50E5-4EBC-AEAC-3D1D76FE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E28E1-7158-4BD4-992B-12D9B05C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F94-A384-4CAE-A329-A4CC6CDB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717CE-E99D-46F3-8BA3-0F55E64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3C4BB-A0EB-4966-8727-23AC448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857A3-CBC4-44A3-AD77-EDC8CD62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52EFF-6C7F-49CA-80E8-318D798D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592F8-2633-48AB-954C-9D6C320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719E3-68CD-4ACD-B659-34C4ADCB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5386F-B3AB-407F-8B85-72CAF3F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0DD8B-E024-4750-A715-7B6D5585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DBA63-5D0A-4901-9BD4-08162B7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F7DEC-2584-41AA-808A-11545A5D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B6F-A108-4390-94E2-6E12DC82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E843D-5B82-4B53-97EF-2446A0E5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DDF59-86D1-4F8D-9E68-04BCA12C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32C83-AF56-48AE-AB5D-AC9163A8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85797-4EEF-4946-98F9-B0E8AA2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738B4-DF3B-465D-A066-B005607E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286A4-CCF0-4D2D-B891-CD0D04A5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262C8-4C41-4159-AF4F-5620BB5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30E8-79BC-4D70-AE99-B5C02D2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4332D-7BA2-4623-BDA3-2416AB1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2FF4C-B396-4FA6-B125-26C388D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D340-ED43-41BB-9099-443F5C6C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6DC06-A843-4DC4-BA1F-57F52E7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51A16-95E1-4511-A205-E0FE4C95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E09C8-8FF9-47C1-80EE-55630629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E6C0D-047C-4729-85EA-836444EE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DE82E-1598-4BCF-96F9-CFECAED0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286DC-4A5B-4DEF-B3DC-DE7BC778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2A5F8-2A36-4495-9DCD-E3C2F494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E3548-69F7-4B92-A789-0F1856F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FF46A-7CD9-4D71-8F1B-42E5E69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21898-EC77-412D-BA95-26A0D58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36F5-73ED-4D0E-96B0-DBAB53D5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A9A96-63ED-4361-A8C1-C998F29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FF654-0F81-45C5-B9ED-C2725F5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202F2-0ABE-4281-8E88-4775116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B2CCD-6E17-4D2D-8ECD-5E31D05A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A3587-480A-451B-B3DB-B421A0E3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0F8D-8AFF-45C6-A23B-AAAE5C9E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EABD-23A2-4AAD-B3C1-1724C1D9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F93B-C8BD-45A5-AD13-FC46A735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4788-6580-4F52-9161-650F445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0AA3-B0D6-4BC1-9465-DE7AB89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897-489F-4B75-A17A-5356EFC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3667-D303-4895-9354-DA27DD7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AFA-9CCA-496B-B617-DFF9637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A47-5DB4-451E-A0ED-EC8D744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F264-985A-4E28-B8D3-499295D2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949E-713D-41FB-BE4C-235AFBC4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322A-CB48-4BFE-BA8F-CD56E89A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BCD6-3008-4C14-AB9F-1BCC4B9C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BAA3-620B-4AC9-A2DC-F8D562B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BFCC-2A5F-49FE-BF35-806A86B5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2984-9CDF-43EA-A1EF-7022E881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750-468D-4DDC-B9B7-3485DA2B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2634-4EA7-4809-8FEC-B04DFAAF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60EC-03BE-40CC-952A-85B4DA7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B71E-C103-48DD-9378-DACF9F3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7143-B07B-48F4-A1CE-F43F63FE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FF2F-E24C-4593-BD19-1235745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244A-BAEF-4737-A130-53B8C8CD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263F-D8B7-45E9-AA54-61BBB44A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C8D5-359D-40CF-9F61-2118CEA7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33D9-619E-4CE3-B07C-B942F94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2F8D-3F72-4D86-8C50-55F226A0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B4F-8342-42A1-8BDB-21A60C42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D83E-3D5B-4F76-BA42-315657AB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AF89-31FF-4FF6-9B8A-C3C73EEC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2F40-5E37-4A3C-BAD0-58BCA999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8DC1-3203-4DA7-908C-9E3DBF7D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5FD5-C765-4E49-BAD2-B80087F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C489-8966-4971-A8F3-E6F663C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5188-938E-48E5-9FFC-C15DE4C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E3A8-21D6-4F59-9969-C12DF15A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C73F-F006-4E04-A3E2-BF127041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06182-A3DE-434D-82FF-16CE2C51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D40-A671-425C-9B92-0450FF4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CF33-6B8F-4035-9140-4C330CF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E1FB-7929-4B67-AF90-37004365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4F50-B883-4B45-AC68-01DC00A8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C04F-B5E6-425B-AE1E-2494D531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6D47-CC11-4372-855B-F26F87D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29B5-0E42-4480-8778-E81DC8C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4473-9078-4792-8D73-9127FDC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326D-B348-47E3-A7E4-6558118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3F650-9083-4875-B948-82F5B20D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6373-FDA3-4A0D-BC09-F803C7D2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588-894D-49CB-8C4B-B0B2C404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61D5-7FBA-4D76-BAA6-92836327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0D14-9FCE-4C60-9B23-53D0C915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D219-0F30-438D-A3A8-2974E1F8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D84F-9145-4683-BF84-78F7E2C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F2E1-1216-421E-ACB5-E7C42D9E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BA0AD-D95C-4E4B-8244-FAF6114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2A6B-97EA-434D-A405-CABEB5A4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A8A9F-D601-45D9-BACE-C1FE133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B17E-CFFD-4167-9C5C-3FA016C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6A51-AEBB-4CC0-82F8-0405DC9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381-BA8A-4DF7-8CDE-612DD7A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025C-27C2-48A0-909B-28C8540F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9241-EEC7-4FE7-847E-079BDD16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18C3-1B38-43B4-9E29-6EC2E17A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F7CF8-6C9F-4B6B-A898-98DE013B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681AD-B7EF-4B7F-8179-2785DDE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ABD3-6D10-47A0-BC0C-6D0A2C6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2AE9F-AF45-4897-9C95-C28A18A9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E989-0342-42ED-80FE-86A64A5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45C9-274F-4EA3-B2FD-E71AB0A9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4073A-B83E-4AC4-8790-797D8A4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036-0522-4DAA-8022-94494F8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6E48-1734-46A4-81B8-E8B6A08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4044E-F2BF-46A0-8D67-50BDC0B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58A8-415E-4778-A34F-596A63C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4D3A-B838-412C-98CC-52D4BB2F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79E5-45EE-4903-B51C-9C311D60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BE2B-E41B-49DD-8755-8AAF0DC9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742B0-9E64-4903-8776-C13061D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0C463-F287-45C7-B0BE-44CC35B3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BD968-05BA-45A6-9A8C-C10E04A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2592-8800-4BE9-A0CF-A037E00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AC9-AC8C-4F22-9498-EE5BDDB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B60A-EA0A-44C4-A2D2-ED41EEE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88A4-0D52-445D-9A17-5B77F592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44FB8-13D9-480B-93A9-0FEE5E5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73CD3-6DDE-4AAF-B6B1-188C969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5FC9-73A6-4906-BCAC-90DE12D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C015A-E3A9-4862-9BF4-4AADE5FA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C837-0F65-450E-98AB-2A2957E6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320B6-2E49-4F6A-95C4-E83B0A62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80CAB-18F5-4CDF-9B6D-F9CE61E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14014-65F0-43C8-870C-E3D1363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F24-C8DB-41DE-9F65-BB454EED92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C3E-537B-48C2-B086-C506968FCA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741A-FCC1-4CC9-B423-7A47B8A531B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36E6-B3D8-4C74-B21E-3E2BF2945B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55D-BE93-466B-B75D-637CED6ECA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17E4-4BEB-4335-9062-FBBB479DC6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1B0-0B65-4F94-A1D5-7834E15BA4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EAEA-A32E-4130-ABED-C1AD55A26B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5728-56CD-475A-B1D3-AF82F042A4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87BC-33E3-4024-A491-43728CF999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E23A-3F86-447D-BDB5-F17A5FD44F3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9DB8-4DF8-4171-9CF6-736812310B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52280" y="28195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TE CORE TRAINING ~ DAY TW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DYNAMICS OF SEXUAL ASSAUL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7b70"/>
                </a:solidFill>
                <a:latin typeface="Georgia"/>
              </a:rPr>
              <a:t>EFFECTS OF SEXUAL ASSAUL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ashington Coalition of Sexual Assault Progra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ynamics of Adult Sexual Assaul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k we discussed with child sexual assault, there are a number of factors that contribute to the impact of the abuse on the survivor and effect the healing process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Nature of the assa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Number of assault incid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Level of emotional, physical, spiritual, and sexual violen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Relationship between perpetrator and the surviv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When the survivor remembers the assa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The presence of a good support syste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ects and Coping Mechanis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h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Guil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enia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inimiz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ack of boundar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fficulty trust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nrealistic sense of saf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elf-har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uicidal behavior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sol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mnesia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ssoci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esthes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ating Disord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ubstance Us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hysical chan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od disord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t-traumatic stres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ften develops months later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ntimate Partner Sexual Violen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imate partner sexual violence (IPSV) is sexual contact or activities with an intimate partner that a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non-consensu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part of an abusive dynamic of power and contro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often include threats, coercion, and manipul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PSV can happen due to violence at the time of the incident, or as a result of on-going violence within the relationshi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evalence of IPSV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6349"/>
                </a:solidFill>
                <a:latin typeface="Georgia"/>
              </a:rPr>
              <a:t>51.1%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of female victims of rape reported being raped by a current or former intimate partn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lking about sexual violence can be important in risk assessment.  There are higher rates of injury and fatality when sexual assault is involv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6349"/>
                </a:solidFill>
                <a:latin typeface="Georgia"/>
              </a:rPr>
              <a:t>38%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of male victims of sexual violence other than rape reported that the perpetrator was a current or former intimate partn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PSV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might survivors of IPSV not see themselves as victims of rape or sexual assaul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idered a “marital duty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ctation of consent in an ongoing relationshi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ni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nimization and rationalization by abus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soci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ultural Consideration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an advocate, what cultural aspects do you need to consider in a situation of intimate partner sexual violenc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Family and community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Cultural nor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Strict gender ro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Racial or ethnic isol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Language barri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Economic restri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e38"/>
                </a:solidFill>
                <a:latin typeface="Georgia"/>
              </a:rPr>
              <a:t>Legal impl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le Survivor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myths regarding men and sex might make it difficult for male survivors to disclose sexual abuse?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myths / stereotypes might make it difficult for others to see men as sexual assault victi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Society perpetuates view of men as always wanting se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Stereotype that all men are powerful and aggress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Survivor may wonder how this will affect their sexual ori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Men are not typically socialized to ask for hel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4640" indent="-2124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5a00"/>
                </a:solidFill>
                <a:latin typeface="Georgia"/>
              </a:rPr>
              <a:t>Male victims are often perceived as perpetrators once they disclo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ape Traum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urvivors can experience somatic, cognitive, psychological and behavioral stress responses after an assault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5a00"/>
                </a:solidFill>
                <a:latin typeface="Georgia"/>
              </a:rPr>
              <a:t>These reactions may happen immediately afterwards or the survivor may have a delayed reactio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y might last for a short period of time or a long period of tim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5a00"/>
                </a:solidFill>
                <a:latin typeface="Georgia"/>
              </a:rPr>
              <a:t>People will experience a wide range of reactions, and they may change over time.  There is no normal response to sexual violenc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ape Traum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0880" y="1600200"/>
            <a:ext cx="442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mediate Responses may includ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fus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xie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umb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umili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barrass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a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l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lf-Bl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ulled sens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fficulty Concentra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4876920" y="160812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ng-term responses may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tinuing anx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or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nse of helples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sistent f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od s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leep disturb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ashb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nic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o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lationship difficu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thdrawal/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ano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ntal Heal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survivors may be diagnosed by a mental health professional as having Acute Stress Disorder or Post-Traumatic Stress Disord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may be helpful to refer survivors to mental health professionals, and build relationships with competent providers in your are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ild Sexual Abu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hild sexual abuse (CSA) is defined as sexual touching and / or sexual penetration of childre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s definition include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attempts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 well as completed attemp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ther forms of CSA include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exposing children to pornography for sexual gratification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690840" indent="-2656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taking nude or suggestive photos of a child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690840" indent="-2656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peeping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690840" indent="-2656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sexual harassment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690840" indent="-265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oca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several types of advocac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Information and Referr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Crisis Interven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General Advocac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Legal Advocac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Medical Advocac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Systems Advocac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e38"/>
                </a:solidFill>
                <a:latin typeface="Georgia"/>
              </a:rPr>
              <a:t>Specialized Services, such as a support group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primary goal of advocacy is to empower survivors, empowerment is the foundation for hea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stems Advoca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we say systems, what do we 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Leg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Medic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Politic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Economic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What other systems might impact or effect survivors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 advocates, we are there to help survivors navigate these confusing processe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are also there to help the people in those systems have a better understanding of SA dynamics and the needs of survivor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cu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ole of the advocate is not to rescue someone, it is about empower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The feeling of being a powerless victim is hellish and is only made worse by people who agree with one’s powerlessness by rescuing.” (</a:t>
            </a:r>
            <a:r>
              <a:rPr b="0" i="1" lang="en-US" sz="2700" spc="-1" strike="noStrike">
                <a:solidFill>
                  <a:srgbClr val="463e38"/>
                </a:solidFill>
                <a:latin typeface="Georgia"/>
              </a:rPr>
              <a:t>anonymous</a:t>
            </a:r>
            <a:r>
              <a:rPr b="0" lang="en-US" sz="2700" spc="-1" strike="noStrike">
                <a:solidFill>
                  <a:srgbClr val="463e38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advocate must believe in the survivor’s power to do things for themselv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mpower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primary goal of advocacy is to support empowerment of survivors through                               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elf-determinatio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afet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advocates, we do not “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gi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” or “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permi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” empowerment, but we d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Promote a sense of power from with by supporting a survivor’s self-determination and autonom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Create conditions for empowerment by supporting a survivor’s safety and heal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identia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fidentiality is one of the most important work ethics you must observe as an advoc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3e38"/>
                </a:solidFill>
                <a:latin typeface="Georgia"/>
              </a:rPr>
              <a:t>It is your responsibility to protect the information a survivor chooses to share with you.  Remember it is the survivor’s information </a:t>
            </a: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(</a:t>
            </a:r>
            <a:r>
              <a:rPr b="0" i="1" lang="en-US" sz="2200" spc="-1" strike="noStrike">
                <a:solidFill>
                  <a:srgbClr val="463e38"/>
                </a:solidFill>
                <a:latin typeface="Georgia"/>
              </a:rPr>
              <a:t>not yours or the agencies</a:t>
            </a: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fidentiality creates and maintains trust and sense of saf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person’s right to confidentiality is based on an expectation of priva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14</a:t>
            </a:r>
            <a:r>
              <a:rPr b="0" lang="en-US" sz="2000" spc="-1" strike="noStrike" baseline="30000">
                <a:solidFill>
                  <a:srgbClr val="646b86"/>
                </a:solidFill>
                <a:latin typeface="Georgia"/>
              </a:rPr>
              <a:t>th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Amend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ceptions to Confidentia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nfidentiality can be broken if you suspect abuse or neglect of (a) child(ren) or a vulnerable adult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ashington law says that an advocate may break confidentiality to report an imminent threat to harm one’s self or someone else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nfidentiality can be broken if there is a court order signed by a judge that requires you to release certain information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 subpoena is a formal request for information. Your organization should have a policy for responding to subpoenas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nfidentiality can be broken at the request of the survivor (more on this later!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52280" y="28195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TE CORE TRAINING ~ DAY TW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6349"/>
                </a:solidFill>
                <a:latin typeface="Georgia"/>
              </a:rPr>
              <a:t>THE END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ashington Coalition of Sexual Assault Progra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SA Preval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timates of lifetime prevalence rates for at least one sexual abuse experience are between 20-30% of girls and about 15% of b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8% of a representative sample of women in Washington state reported some type of sexual assault experience during their lifetime, 80% of which occurred before the age of 1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about 10% of CSA cases involve strang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oo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en we hear a story of child sexual abuse, it is often said, “I never expected so and so.” Why is this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3e38"/>
                </a:solidFill>
                <a:latin typeface="Georgia"/>
              </a:rPr>
              <a:t>Because offenders practice the act of grooming; a deliberate process to gain the trust of the child, the family, and the community - prior to committing any acts of sexual abuse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is creates a dynamic in which people are often  more willing to trust the offender and doubt the child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Grooming occurs in four phases, though not all phases occur in every case. These phases are Engagement, Sexual Interaction, Disclosure, and Suppression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ha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ngagement: The perpetrator structures access and opportunity by building special relationships with the child or family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exual Interaction: This is the beginning of sexual abuse and usually escalates from non-touching to touching behavior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Disclosure: May happen accidentally or intentionally by the child. Disclosure by a perpetrator rarely occurs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uppression: Family attempts to minimize the severity of the abuse or the child’s response to it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pact of Child Sexual Abus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560" y="1523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actors that are important to consider when discussing the impact of C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The child’s previous experiences and histor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Nature of the sexual abuse and the child’s reaction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4f07"/>
                </a:solidFill>
                <a:latin typeface="Georgia"/>
              </a:rPr>
              <a:t>Responses by others upon disclosure of abus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w that you understand and take seriously what the child is say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sure child they did the right thing in telling, they are not to bl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ake steps to protect the child, talk to them about what they need to be saf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ditional Impact of CS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lder children tend to be more affected because they understand what the abuse means and how it might affect them, while younger children are primarily focused on their immediate safety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xiety and posttraumatic stress in young children are often expressed by regression, aggression, and separation distress. In older children, withdrawal, avoidance, and emotionally shutting down are commo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aregiver support is essent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ndated Repor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4560" y="1523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xual assault advocates are mandatory report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there is reasonable cause to believe that a child or vulnerable adult has suffered abuse or neglect, advocates must report in no longer than 48 hours. The report must include the identity of the accused, if know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c7b70"/>
                </a:solidFill>
                <a:latin typeface="Georgia"/>
              </a:rPr>
              <a:t>We will discuss vulnerable adults in more depth la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port can be made to either local law enforcement or CPS (</a:t>
            </a:r>
            <a:r>
              <a:rPr b="0" lang="en-US" sz="2700" spc="-1" strike="noStrike">
                <a:solidFill>
                  <a:srgbClr val="d16349"/>
                </a:solidFill>
                <a:latin typeface="Georgia"/>
              </a:rPr>
              <a:t>1-800-END-HARM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dult Survivors of Child Sexual Assault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ults who have survived childhood sexual assault may reach out to advocates for a number of reas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After a traumatic experience as an adult, such as a rape, they may be confronted with a repressed memory of a childhood assa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Perhaps they are currently experiencing violence and abuse.   Offenders often sense and exploit vulnerabilities that a child sexual abuse survivor may exhibit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3e38"/>
                </a:solidFill>
                <a:latin typeface="Georgia"/>
              </a:rPr>
              <a:t>As a child, the survivor might not have had resources or support, and are now in a place to access those re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1:58:40Z</dcterms:created>
  <dc:creator>Trisha Smith</dc:creator>
  <dc:description/>
  <dc:language>en-US</dc:language>
  <cp:lastModifiedBy>Kelley Richarson</cp:lastModifiedBy>
  <dcterms:modified xsi:type="dcterms:W3CDTF">2014-06-24T22:05:11Z</dcterms:modified>
  <cp:revision>10</cp:revision>
  <dc:subject/>
  <dc:title>Washington Coalition of Sexual Assault Programs</dc:title>
</cp:coreProperties>
</file>